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A59-AF9B-4766-B858-390A0018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051-8564-44FB-8FEF-BED90E7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792-A70F-4DC8-9F10-0008401A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7B5-B8AF-41A7-BDED-A47F0DFE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975-151E-482E-A842-7399B3A7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F7E-2FB8-4595-8ACA-0B3FFFDF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E9E-1F58-4FC1-A14F-1DB3202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CF4-1D1A-43C2-A230-CF35B8BB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FA1-BB9D-428C-B2AF-C71BA8F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004-A022-4352-B478-D505EE5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CBF-587E-4452-A2E0-5A5A614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7A5-0543-4DAE-AAB7-7F280A2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CEB2-2213-4029-93FF-BF3AA8DA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V/VoIP.html##" TargetMode="External"/><Relationship Id="rId2" Type="http://schemas.openxmlformats.org/officeDocument/2006/relationships/hyperlink" Target="http://www.webopedia.com/TERM/V/VoIP.html##" TargetMode="External"/><Relationship Id="rId3" Type="http://schemas.openxmlformats.org/officeDocument/2006/relationships/hyperlink" Target="http://www.webopedia.com/TERM/V/Interne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ed Information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dvantages of and classified by their size &amp; architecture 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P Protocol,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tern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category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dwa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ftwa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at enables people to use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r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s the transmission medium for telephone calls by sending voice data in packets using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oesn’t pay anymore than what they are paying for their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P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elephony is a combination of hardware and software that enables people to use the Internet as the transmission medium for telephone call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can be with the quality of t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need a microphone &amp; sound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erson needs to be o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net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92720" y="1341000"/>
            <a:ext cx="339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twork consists of two or more computers that are linked in ord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resources (such as printers and CD-ROM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fil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lectronic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233720" cy="1505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1233720" cy="1504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1233360" cy="150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843280" y="5084640"/>
            <a:ext cx="1447560" cy="7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2743200"/>
            <a:ext cx="1600200" cy="990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573360"/>
            <a:ext cx="431640" cy="792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4292640"/>
            <a:ext cx="431640" cy="79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863640" cy="71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etwork?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sharing - internet, printers, softwa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services, ordering, B2B, AT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llaborative documents, intranet, group calendaring, email, videoconferencing, chat, virtual priva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 money on expensive equi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inters, internet connections, internet cache, CD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home directory from any PC, remote control of equipment, networked help de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assword protection,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organisation goals, efficiency, effectiveness, customer service, compan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can be classif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ize and archite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ogical shape, “topology” (bus, star, 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are linked or connected together, (cable, wireless, satellite, radio &amp; infrar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hardware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S, local area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 be cabled (UTP, coaxial*) or wirel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ographically limited, usually to on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nger distances between buildings may need fibre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s usually have one computer designated as the fil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puters are connected to the network by cables connecting network interface cards in each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LAN means computers not confined to on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Area Network, (W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AN) – broad geographic coverage (e.g. state-wide, country-w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, where communications carried by a medium owned by someone else who is not part of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use landline data cables (e.g. ISDN, ADSL), satel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S, MAN, state wide network, National Area Network, world wide, eg.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ivate Networks (VPN) can form a private network using the internet as a communication channel – much cheaper than leased ISDN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uter program (the ‘client’) asks another computer program (the ‘server’) to provide a service, such as looking up and providing data, delivering email, sending web pages, bank balances etc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/server model can interconnect programs distributed across different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s, print servers, database servers, DNS’s, Prox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-to-Peer (P2P) network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server, so costs are lower and installation i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computers and users, “peers”, have equal authority an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ttle protection of one workstation against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Used at home or in small organisations with trust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Allows sharing of files, internet connection,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sues of speed, security,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Internet music sharing networks such as Kazaa are peer-to-peer because there is no central coordinating computer, data and operating software are stored on on each client’s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peer-to-peer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nect to another’s computer o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azaa software application that support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oses computer to security vio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1:49:56Z</dcterms:created>
  <dc:creator>T01421606</dc:creator>
  <dc:description/>
  <dc:language>en-US</dc:language>
  <cp:lastModifiedBy>Kelvin Baird</cp:lastModifiedBy>
  <dcterms:modified xsi:type="dcterms:W3CDTF">2007-01-05T03:13:03Z</dcterms:modified>
  <cp:revision>10</cp:revision>
  <dc:subject/>
  <dc:title>Slide 1</dc:title>
</cp:coreProperties>
</file>